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CCD-5591-4BB9-9451-480D7971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101-D282-4192-B3FD-A30AA862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630-AB5B-4E8A-B9F9-30519AE2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1F0-1C39-4807-B117-3FF4D222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BA9-881F-451C-BCDA-CA104FA7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589-CAD0-4B39-B069-C16D8D45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D64-BF7F-4446-9574-9A980432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D28-816C-45DF-83B3-8C5AB679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79C-9205-46B0-AA03-CC1F356D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E2F-51ED-41D1-B523-8DD17B12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114-53F9-4C58-B524-D3162C23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A80-8F93-4BC6-89D4-33BB43F1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06F4-2184-4ABB-A96F-0A7717EF6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0840" y="0"/>
            <a:ext cx="9294840" cy="207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447920" y="2743200"/>
            <a:ext cx="6059520" cy="216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2057400"/>
            <a:ext cx="3352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___ at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___ speed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___ slow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___  ac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___ de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 constant speed forward (aw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constant speed backward (tow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5105520"/>
            <a:ext cx="2057400" cy="1447560"/>
            <a:chOff x="304920" y="5105520"/>
            <a:chExt cx="2057400" cy="1447560"/>
          </a:xfrm>
        </p:grpSpPr>
        <p:sp>
          <p:nvSpPr>
            <p:cNvPr id="47" name=""/>
            <p:cNvSpPr/>
            <p:nvPr/>
          </p:nvSpPr>
          <p:spPr>
            <a:xfrm>
              <a:off x="685800" y="518148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6172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586728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120" y="5105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0840" y="0"/>
            <a:ext cx="9294840" cy="2079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447920" y="2743200"/>
            <a:ext cx="6059520" cy="2168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2057400"/>
            <a:ext cx="3352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___ at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___ speed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___ slow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___  ac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___ de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 constant speed forward (aw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constant speed backward (tow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5840" y="30492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259092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66688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30492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2860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876920"/>
            <a:ext cx="24444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5105520"/>
            <a:ext cx="2057400" cy="1447560"/>
            <a:chOff x="304920" y="5105520"/>
            <a:chExt cx="2057400" cy="1447560"/>
          </a:xfrm>
        </p:grpSpPr>
        <p:sp>
          <p:nvSpPr>
            <p:cNvPr id="64" name=""/>
            <p:cNvSpPr/>
            <p:nvPr/>
          </p:nvSpPr>
          <p:spPr>
            <a:xfrm>
              <a:off x="685800" y="518148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6172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586728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2120" y="5105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8:19:52Z</dcterms:created>
  <dc:creator>socsd</dc:creator>
  <dc:description/>
  <dc:language>en-US</dc:language>
  <cp:lastModifiedBy>SOCSD</cp:lastModifiedBy>
  <dcterms:modified xsi:type="dcterms:W3CDTF">2010-09-17T11:49:44Z</dcterms:modified>
  <cp:revision>3</cp:revision>
  <dc:subject/>
  <dc:title>PowerPoint Presentation</dc:title>
</cp:coreProperties>
</file>